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5145088"/>
  <p:notesSz cx="514508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8D2-6B59-4185-A3D6-594D0556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625-9F48-4F17-950D-9521E395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1844-90B4-42BF-9504-60C146B3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C7A32-F1C6-4A4E-BF9C-F1569F9C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72ADC-4D0F-4DEE-A5AC-3B968376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B3CD7-CD7E-47F2-86D8-9AE199E7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FE72B-4B8C-43B7-ACE6-D6E93A5F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6CE73-2965-4D60-B80C-0EAEFF4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D31B-6604-4F30-B2DE-6ACCBB8D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69E7E-83AD-4BDE-AF32-6EA7AFC5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85A7D-1F49-428D-94C3-D711EE92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A5EB0-4D7B-43A2-9B12-39E7D6F3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705-9EA2-4F94-91CE-3446879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BE134-4A64-4E5A-9E46-9EA7F949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33FB6-F1FA-4051-AE37-D6A8561D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574A9-A66B-40C9-9C7A-6A84C442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8B231-927B-44CF-82AC-1EAB63DE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EFD68-7086-4ADB-99A6-636B5D4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21761-A111-4AAF-8916-602FF3A5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CC758-F1F9-4C66-853B-73A06A22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45A0D-34AC-4BF0-A6E9-3C486B16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16685-8492-4066-B738-1D1012BE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95194-C102-460D-A3B1-9BC62BE9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642-0DE2-4F38-9FDC-69CB11CC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0FA1-4990-4C88-A65F-C80C8F5D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2C8E-09A8-4FB8-B3EE-368BB935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F2C4A-38D8-4CCC-A306-03DDC83A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6BC19-8DFB-4694-9EE4-5F023029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104CC-E5CD-4827-B3A6-CDD30096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DE7F2-E72C-45DE-B5CD-E479F70C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EE5D-D86D-4E6C-88AC-08CFC7EE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A6556-83DE-4C37-B846-165264CA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F1283-9AE9-4184-B135-B2AEADD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975CF-81B1-4D66-95EB-57D83E28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E5F0-06E4-4E8B-8F0B-4CE9508F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9CA5A-6385-4B7A-B6A0-D7EE7B25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7C78-2950-477A-A373-AA7065DF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4CA9A-1EB4-4ABC-8F0C-1FCCEFD4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56232-894F-4E8D-9D1F-049E7C32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BB45D-A7FD-4967-941A-E236E5D5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E36EE-8C9B-4FF4-B089-F04C229D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95D18-5144-4188-A016-6383E04C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74542-E8A0-4526-AAC9-0A39D33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3F982-CF49-4A4D-B39C-DE35AC73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8D6B4-CE3F-4FEB-872E-911B709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855C-0F77-4982-BDA8-A8943EF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2F43-83D3-4E32-B96F-AF6AEEF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07E56-01EE-4981-AD9E-08C54C4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CC160-5E2C-4267-9AB1-40AD560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4942E-F3BC-4B5A-9FF0-22B814B8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CE65F-0D53-4D3F-AF2E-68ECA711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72C2-6AEA-449F-AD81-D5F68687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BE51-EC4F-4A73-ADDA-D56D977A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F386-00C4-4626-8C08-1E2549F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CDE1-68D3-42A0-B8D9-75E2885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8E7-893C-48E2-8DB6-7C49EF4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0CA-A686-450B-993A-0C672A60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BF10-04AC-4941-B6F2-7CC28680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B9F0-056A-475B-B9D7-072D11F7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53E1-103A-48E0-BE11-0633DAC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D0E9-3F14-42E9-8C43-6155EDBE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555-51B0-4E3C-80F2-9A21F60C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8431-6198-4803-AEAA-05960B2A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5022-3CB3-40B4-8D5E-4946D1D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0CDB-5EF0-463A-B43A-0AE37BA8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BAA0-B00A-438B-A620-BC175E7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4EC9-A350-4382-A7F0-F58DB0F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D74-415B-409B-88A0-A83353F0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F511-585D-4ADB-9A9B-25FC7745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95B4-30EB-4FC6-A4DA-CEDF048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FA8C-9F83-493C-87C9-275CD062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F66E-EEAD-4040-A619-F378C39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8AF6-BBA3-4D94-812C-3B73593F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F75B-EA6C-4FF7-A7C6-2B92B3DC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B460-2EA2-4465-B297-D42812C9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B8F4-7DFF-43A8-8C35-93BC1B1D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9A4D1-466C-486D-A27F-F5E55C92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8009-5E63-49A0-A399-DBFD8EC5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BD8-EA1D-4C5D-B8B3-3A0911AC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EFDC-E63C-456B-AEBF-1B972E75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13EE-9007-438C-802E-B5AED36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BA38-F922-44BA-BFF8-FD1C00E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5879-E9D9-4778-B1DC-078C3642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BB5A-D8F1-496A-9008-8507C8C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4660-7369-4EDB-AD8F-A8A3CE3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FFC8-1FEF-49F7-9416-89759B7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94E2-171A-40BF-8748-0DA56FF2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22B3-BB62-47BC-AAAC-524F8ED8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61818-6191-4E14-B7D1-CE96CF85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EA3-DFE0-41EC-AD5E-C1746160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2D9A6-F64F-4A0C-81E3-783AEDF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41A97-BE35-46C4-82D1-74DE523D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39B0-E26B-4497-81B3-CE3BD037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B199-DD22-4F12-BC62-75CDECD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6770-D20C-493F-A298-54F327B7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81A8-68C0-4383-B09C-BD022F0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CFB18-3CBD-4701-9E79-11B10CD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AE58-D919-4383-8585-898187A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C8DA-8E9C-4429-BBE3-DE8EA98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66D28-6BEA-4584-B7F4-2F977FD8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7B8-DE72-4E62-B37E-6B83899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BA51D-EA8D-41F5-87CD-B6F693CB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6DB03-7089-4753-A295-A24977D8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F005E-90CB-4445-889B-B8E2A219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49612-98A3-4E69-AEA7-DFC94968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ED8B-1274-48AE-A66E-8A735BD5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2799-F961-4184-946C-ECC2A49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CF7B-5309-49D0-BCFD-70FF80B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98D2-E753-4EF6-8F26-BD7337F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72E7-55E9-4FC2-8293-B73FE0D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0A3C-3061-4577-9128-BAD7E92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514-AF09-4CAB-933E-5CF6101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6F2D-491A-42AB-A768-348C0100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0E897-26BD-4D9A-BF17-82538EE8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FF13D-0A51-46B3-9736-C6FA0362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C38ED-8709-46C0-970D-C345C793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F86C-18C1-410F-B154-B9148C71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7DE55-62B2-4DB4-B86B-706ED94F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7B80B-9F04-4980-A8D8-573E42A4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1B85-A29F-4210-8010-BACAF92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EA173-1AB9-4F68-9FD2-9CE8A63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43A6-72C3-4858-BDD6-92D0DBF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7BE-68FB-4C38-9609-6AE85851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CA381-BFD2-4A24-841A-E54D463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34F46-B56A-4641-9FF5-CAFC0EF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3F52-1EF9-4708-9585-2E91D1B5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1344-1C8E-4A56-99ED-82090ACC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4E84-FC3E-42BF-B27B-3988A619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56EB6-44A5-4E1C-91D6-12CB2A50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7C49-17B4-45AE-8297-08533AB5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84A57-E037-4F57-B6C6-F384B00F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DD88-B2D0-4383-919E-DD0F3C9F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FDBD5-ACDE-410E-ABBF-53850258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A86-005C-40B0-810A-EDDC944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4E645-1B4D-466E-AAA4-AA366BD5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40E5-003F-46DD-BEC9-4376C2A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608E-73DB-42FE-8226-1290A151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4AC80-6C01-40AC-97CD-4321B40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8955A-781A-453C-A4AB-FA9D5D16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B6FBA-11F8-4CFC-9558-C70A0EE5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D969A-0D7C-4F85-AC0C-209B9AD7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41F2A-C37F-472F-BA70-C6DEED39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2BADE-587D-493C-84AA-EE012DB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09406-015D-4F5A-9AD5-8D12E2AB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97EA-40A9-4EE5-9343-64EF3BC90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0E23-992F-40AE-B1D2-61FB6BFEA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CBD6-85FF-4429-A8F8-0E6061C85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FB65-7D36-4AED-AA4C-C44708B00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F16-A3A8-4495-80E1-1550DFE2A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4C81-823C-4801-8856-E40489189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B605-E28C-4F1D-9899-99F8DCE7D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25ED-6AE0-4C5F-A30B-55B92C283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C735-9CB5-4EE9-9109-6E3D74470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89F8-A927-4E20-BEE4-8E0AF9921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77BF-2B41-4846-989B-119A0C68C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23A9-C7E8-4651-A918-E0FC26A5E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7" descr="5.jpg"/>
          <p:cNvPicPr/>
          <p:nvPr/>
        </p:nvPicPr>
        <p:blipFill>
          <a:blip r:embed="rId1"/>
          <a:stretch/>
        </p:blipFill>
        <p:spPr>
          <a:xfrm>
            <a:off x="900000" y="3363840"/>
            <a:ext cx="2519640" cy="168768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5" descr="3.jpg"/>
          <p:cNvPicPr/>
          <p:nvPr/>
        </p:nvPicPr>
        <p:blipFill>
          <a:blip r:embed="rId2"/>
          <a:stretch/>
        </p:blipFill>
        <p:spPr>
          <a:xfrm>
            <a:off x="611280" y="1779480"/>
            <a:ext cx="2520720" cy="16797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492360" y="1203480"/>
            <a:ext cx="54007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 Math"/>
              </a:rPr>
              <a:t>МУНИЦИПАЛЬНЫЙ АКСЕЛЕРА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mbria Math"/>
              </a:rPr>
              <a:t>ПРОЕКТОВ ПО СЕРВИС-ДИЗАЙ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Заголовок 1"/>
          <p:cNvSpPr/>
          <p:nvPr/>
        </p:nvSpPr>
        <p:spPr>
          <a:xfrm>
            <a:off x="3456000" y="4516560"/>
            <a:ext cx="56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mbria Math"/>
              </a:rPr>
              <a:t>Прохоровский райо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mbria Math"/>
              </a:rPr>
              <a:t>2023 г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Рисунок 4" descr="1.jpg"/>
          <p:cNvPicPr/>
          <p:nvPr/>
        </p:nvPicPr>
        <p:blipFill>
          <a:blip r:embed="rId3"/>
          <a:srcRect l="0" t="0" r="4555" b="8880"/>
          <a:stretch/>
        </p:blipFill>
        <p:spPr>
          <a:xfrm>
            <a:off x="250920" y="268200"/>
            <a:ext cx="2603520" cy="1656000"/>
          </a:xfrm>
          <a:prstGeom prst="rect">
            <a:avLst/>
          </a:prstGeom>
          <a:ln w="0">
            <a:noFill/>
          </a:ln>
        </p:spPr>
      </p:pic>
      <p:sp>
        <p:nvSpPr>
          <p:cNvPr id="497" name="Заголовок 1"/>
          <p:cNvSpPr/>
          <p:nvPr/>
        </p:nvSpPr>
        <p:spPr>
          <a:xfrm>
            <a:off x="3492360" y="2284560"/>
            <a:ext cx="540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 Math"/>
              </a:rPr>
              <a:t>ЗАЩИТ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ЭМОЦИИ  КЛИ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93200" y="1106280"/>
            <a:ext cx="819324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моции собирались у обучающихся 9 класса МБОУ «Прохоровская гимназ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Рисунок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1714320" cy="17856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6" descr=""/>
          <p:cNvPicPr/>
          <p:nvPr/>
        </p:nvPicPr>
        <p:blipFill>
          <a:blip r:embed="rId2"/>
          <a:stretch/>
        </p:blipFill>
        <p:spPr>
          <a:xfrm>
            <a:off x="1928880" y="1714680"/>
            <a:ext cx="1857240" cy="180792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"/>
          <p:cNvPicPr/>
          <p:nvPr/>
        </p:nvPicPr>
        <p:blipFill>
          <a:blip r:embed="rId3"/>
          <a:stretch/>
        </p:blipFill>
        <p:spPr>
          <a:xfrm>
            <a:off x="3857760" y="1714680"/>
            <a:ext cx="1643040" cy="18572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"/>
          <p:cNvPicPr/>
          <p:nvPr/>
        </p:nvPicPr>
        <p:blipFill>
          <a:blip r:embed="rId4"/>
          <a:stretch/>
        </p:blipFill>
        <p:spPr>
          <a:xfrm>
            <a:off x="5572080" y="171468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"/>
          <p:cNvPicPr/>
          <p:nvPr/>
        </p:nvPicPr>
        <p:blipFill>
          <a:blip r:embed="rId5"/>
          <a:stretch/>
        </p:blipFill>
        <p:spPr>
          <a:xfrm>
            <a:off x="7143840" y="1714680"/>
            <a:ext cx="17143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 Math"/>
              </a:rPr>
              <a:t>ПРОТОТИП</a:t>
            </a:r>
            <a:br>
              <a:rPr sz="2500"/>
            </a:br>
            <a:r>
              <a:rPr b="0" lang="ru-RU" sz="2500" spc="-1" strike="noStrike">
                <a:solidFill>
                  <a:srgbClr val="00b050"/>
                </a:solidFill>
                <a:latin typeface="Comic Sans MS"/>
              </a:rPr>
              <a:t>НАСТОЛЬНАЯ ИГРА «Зарниц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Рисунок 3" descr="png-transparent-computer-icons-star-font-awesome-x-mark-angle-leaf-text.png"/>
          <p:cNvPicPr/>
          <p:nvPr/>
        </p:nvPicPr>
        <p:blipFill>
          <a:blip r:embed="rId1"/>
          <a:stretch/>
        </p:blipFill>
        <p:spPr>
          <a:xfrm>
            <a:off x="250920" y="430056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5" descr=""/>
          <p:cNvPicPr/>
          <p:nvPr/>
        </p:nvPicPr>
        <p:blipFill>
          <a:blip r:embed="rId2"/>
          <a:stretch/>
        </p:blipFill>
        <p:spPr>
          <a:xfrm rot="5399400">
            <a:off x="2395080" y="456840"/>
            <a:ext cx="2009880" cy="305100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6" descr=""/>
          <p:cNvPicPr/>
          <p:nvPr/>
        </p:nvPicPr>
        <p:blipFill>
          <a:blip r:embed="rId3"/>
          <a:stretch/>
        </p:blipFill>
        <p:spPr>
          <a:xfrm>
            <a:off x="5214960" y="1071720"/>
            <a:ext cx="3013200" cy="191592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7" descr=""/>
          <p:cNvPicPr/>
          <p:nvPr/>
        </p:nvPicPr>
        <p:blipFill>
          <a:blip r:embed="rId4"/>
          <a:stretch/>
        </p:blipFill>
        <p:spPr>
          <a:xfrm>
            <a:off x="1928880" y="3063960"/>
            <a:ext cx="2943000" cy="207972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8" descr=""/>
          <p:cNvPicPr/>
          <p:nvPr/>
        </p:nvPicPr>
        <p:blipFill>
          <a:blip r:embed="rId5"/>
          <a:stretch/>
        </p:blipFill>
        <p:spPr>
          <a:xfrm>
            <a:off x="5143680" y="3071880"/>
            <a:ext cx="29764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ПРОВЕРК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ТОТИ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Рисунок 17" descr=""/>
          <p:cNvPicPr/>
          <p:nvPr/>
        </p:nvPicPr>
        <p:blipFill>
          <a:blip r:embed="rId1"/>
          <a:stretch/>
        </p:blipFill>
        <p:spPr>
          <a:xfrm>
            <a:off x="8194680" y="50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ая соединительная линия 5"/>
          <p:cNvSpPr/>
          <p:nvPr/>
        </p:nvSpPr>
        <p:spPr>
          <a:xfrm>
            <a:off x="4435560" y="901800"/>
            <a:ext cx="54000" cy="3930480"/>
          </a:xfrm>
          <a:prstGeom prst="line">
            <a:avLst/>
          </a:prstGeom>
          <a:ln w="9360">
            <a:solidFill>
              <a:srgbClr val="345b8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ая соединительная линия 6"/>
          <p:cNvSpPr/>
          <p:nvPr/>
        </p:nvSpPr>
        <p:spPr>
          <a:xfrm flipV="1">
            <a:off x="1927080" y="2867040"/>
            <a:ext cx="5180040" cy="76320"/>
          </a:xfrm>
          <a:prstGeom prst="line">
            <a:avLst/>
          </a:prstGeom>
          <a:ln w="9360">
            <a:solidFill>
              <a:srgbClr val="345b8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hape 7"/>
          <p:cNvSpPr/>
          <p:nvPr/>
        </p:nvSpPr>
        <p:spPr>
          <a:xfrm>
            <a:off x="1566720" y="1039680"/>
            <a:ext cx="18716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hape 8"/>
          <p:cNvSpPr/>
          <p:nvPr/>
        </p:nvSpPr>
        <p:spPr>
          <a:xfrm>
            <a:off x="4884840" y="907920"/>
            <a:ext cx="302076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 «Зарница» может играть вся команда сра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олдатской каши в конц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hape 9"/>
          <p:cNvSpPr/>
          <p:nvPr/>
        </p:nvSpPr>
        <p:spPr>
          <a:xfrm>
            <a:off x="339840" y="876240"/>
            <a:ext cx="344952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Можно поиграть на перемене и в любую по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hape 10"/>
          <p:cNvSpPr/>
          <p:nvPr/>
        </p:nvSpPr>
        <p:spPr>
          <a:xfrm>
            <a:off x="3241800" y="2048040"/>
            <a:ext cx="8762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1"/>
          <p:cNvSpPr/>
          <p:nvPr/>
        </p:nvSpPr>
        <p:spPr>
          <a:xfrm>
            <a:off x="4665600" y="1981080"/>
            <a:ext cx="601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12"/>
          <p:cNvSpPr/>
          <p:nvPr/>
        </p:nvSpPr>
        <p:spPr>
          <a:xfrm flipH="1">
            <a:off x="558000" y="3219480"/>
            <a:ext cx="25844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ти первый раз играли в настольную игру «Зарничка» и не знали, что такая игра, как «Зарница» может быть настольн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3"/>
          <p:cNvSpPr/>
          <p:nvPr/>
        </p:nvSpPr>
        <p:spPr>
          <a:xfrm flipH="1">
            <a:off x="4763520" y="3273480"/>
            <a:ext cx="623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14"/>
          <p:cNvSpPr/>
          <p:nvPr/>
        </p:nvSpPr>
        <p:spPr>
          <a:xfrm flipH="1">
            <a:off x="5388120" y="3186000"/>
            <a:ext cx="2714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  на игровое поле больше конкурсных заданий (этапов, т.к. в реальной игре больше практических этап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15"/>
          <p:cNvSpPr/>
          <p:nvPr/>
        </p:nvSpPr>
        <p:spPr>
          <a:xfrm>
            <a:off x="3559320" y="3349800"/>
            <a:ext cx="601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haroni"/>
                <a:ea typeface="Aharoni"/>
              </a:rPr>
              <a:t>Настольная игра «Зарниц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Рисунок 4" descr=""/>
          <p:cNvPicPr/>
          <p:nvPr/>
        </p:nvPicPr>
        <p:blipFill>
          <a:blip r:embed="rId1"/>
          <a:stretch/>
        </p:blipFill>
        <p:spPr>
          <a:xfrm>
            <a:off x="965160" y="876240"/>
            <a:ext cx="3602160" cy="251784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5" descr=""/>
          <p:cNvPicPr/>
          <p:nvPr/>
        </p:nvPicPr>
        <p:blipFill>
          <a:blip r:embed="rId2"/>
          <a:stretch/>
        </p:blipFill>
        <p:spPr>
          <a:xfrm>
            <a:off x="4533840" y="901800"/>
            <a:ext cx="3952800" cy="248112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6" descr=""/>
          <p:cNvPicPr/>
          <p:nvPr/>
        </p:nvPicPr>
        <p:blipFill>
          <a:blip r:embed="rId3"/>
          <a:stretch/>
        </p:blipFill>
        <p:spPr>
          <a:xfrm>
            <a:off x="942840" y="341640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7" descr=""/>
          <p:cNvPicPr/>
          <p:nvPr/>
        </p:nvPicPr>
        <p:blipFill>
          <a:blip r:embed="rId4"/>
          <a:stretch/>
        </p:blipFill>
        <p:spPr>
          <a:xfrm>
            <a:off x="4511520" y="3394080"/>
            <a:ext cx="398484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ПРОВЕРК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ТОТИ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Рисунок 17" descr=""/>
          <p:cNvPicPr/>
          <p:nvPr/>
        </p:nvPicPr>
        <p:blipFill>
          <a:blip r:embed="rId1"/>
          <a:stretch/>
        </p:blipFill>
        <p:spPr>
          <a:xfrm>
            <a:off x="8194680" y="50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ая соединительная линия 5"/>
          <p:cNvSpPr/>
          <p:nvPr/>
        </p:nvSpPr>
        <p:spPr>
          <a:xfrm>
            <a:off x="4435560" y="901800"/>
            <a:ext cx="54000" cy="3930480"/>
          </a:xfrm>
          <a:prstGeom prst="line">
            <a:avLst/>
          </a:prstGeom>
          <a:ln w="9360">
            <a:solidFill>
              <a:srgbClr val="345b8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6"/>
          <p:cNvSpPr/>
          <p:nvPr/>
        </p:nvSpPr>
        <p:spPr>
          <a:xfrm flipV="1">
            <a:off x="1927080" y="2867040"/>
            <a:ext cx="5180040" cy="76320"/>
          </a:xfrm>
          <a:prstGeom prst="line">
            <a:avLst/>
          </a:prstGeom>
          <a:ln w="9360">
            <a:solidFill>
              <a:srgbClr val="345b8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hape 7"/>
          <p:cNvSpPr/>
          <p:nvPr/>
        </p:nvSpPr>
        <p:spPr>
          <a:xfrm>
            <a:off x="1566720" y="1050840"/>
            <a:ext cx="18716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hape 8"/>
          <p:cNvSpPr/>
          <p:nvPr/>
        </p:nvSpPr>
        <p:spPr>
          <a:xfrm>
            <a:off x="4884840" y="907920"/>
            <a:ext cx="302076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 игры без преодоления препятствий, которые проходят в реальных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hape 9"/>
          <p:cNvSpPr/>
          <p:nvPr/>
        </p:nvSpPr>
        <p:spPr>
          <a:xfrm>
            <a:off x="339840" y="876240"/>
            <a:ext cx="344952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Проверка знаний по медицине, символике РФ, истории России, ОБ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hape 10"/>
          <p:cNvSpPr/>
          <p:nvPr/>
        </p:nvSpPr>
        <p:spPr>
          <a:xfrm>
            <a:off x="3241800" y="2048040"/>
            <a:ext cx="8762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1"/>
          <p:cNvSpPr/>
          <p:nvPr/>
        </p:nvSpPr>
        <p:spPr>
          <a:xfrm>
            <a:off x="4665600" y="1981080"/>
            <a:ext cx="601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12"/>
          <p:cNvSpPr/>
          <p:nvPr/>
        </p:nvSpPr>
        <p:spPr>
          <a:xfrm flipH="1">
            <a:off x="558000" y="3219480"/>
            <a:ext cx="26290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оведения игры «Зарница» в настольном ви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13"/>
          <p:cNvSpPr/>
          <p:nvPr/>
        </p:nvSpPr>
        <p:spPr>
          <a:xfrm flipH="1">
            <a:off x="4763520" y="3273480"/>
            <a:ext cx="623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4"/>
          <p:cNvSpPr/>
          <p:nvPr/>
        </p:nvSpPr>
        <p:spPr>
          <a:xfrm flipH="1">
            <a:off x="5388120" y="3186000"/>
            <a:ext cx="2714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  конкурс «Патриотическая песня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5"/>
          <p:cNvSpPr/>
          <p:nvPr/>
        </p:nvSpPr>
        <p:spPr>
          <a:xfrm>
            <a:off x="3559320" y="3349800"/>
            <a:ext cx="601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 4" descr="png-transparent-computer-icons-star-font-awesome-x-mark-angle-leaf-text.png"/>
          <p:cNvPicPr/>
          <p:nvPr/>
        </p:nvPicPr>
        <p:blipFill>
          <a:blip r:embed="rId2"/>
          <a:stretch/>
        </p:blipFill>
        <p:spPr>
          <a:xfrm>
            <a:off x="250920" y="4300560"/>
            <a:ext cx="6998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420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mbria Math"/>
              </a:rPr>
              <a:t>ЦЕННОСТНОЕ ПРЕДЛОЖЕНИ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Содержимое 2"/>
          <p:cNvSpPr/>
          <p:nvPr/>
        </p:nvSpPr>
        <p:spPr>
          <a:xfrm>
            <a:off x="6012000" y="700200"/>
            <a:ext cx="2089080" cy="287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mbria Math"/>
              </a:rPr>
              <a:t>ПРОФИЛЬ КЛИ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одержимое 2"/>
          <p:cNvSpPr/>
          <p:nvPr/>
        </p:nvSpPr>
        <p:spPr>
          <a:xfrm>
            <a:off x="1332000" y="700200"/>
            <a:ext cx="2087640" cy="287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mbria Math"/>
              </a:rPr>
              <a:t>КАРТА ЦЕН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7"/>
          <p:cNvSpPr/>
          <p:nvPr/>
        </p:nvSpPr>
        <p:spPr>
          <a:xfrm>
            <a:off x="6300720" y="1058760"/>
            <a:ext cx="1584360" cy="1441440"/>
          </a:xfrm>
          <a:prstGeom prst="ellipse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9"/>
          <p:cNvSpPr/>
          <p:nvPr/>
        </p:nvSpPr>
        <p:spPr>
          <a:xfrm>
            <a:off x="6300720" y="1779480"/>
            <a:ext cx="792360" cy="0"/>
          </a:xfrm>
          <a:prstGeom prst="line">
            <a:avLst/>
          </a:prstGeom>
          <a:ln w="190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ая соединительная линия 11"/>
          <p:cNvSpPr/>
          <p:nvPr/>
        </p:nvSpPr>
        <p:spPr>
          <a:xfrm flipH="1">
            <a:off x="7093080" y="1131840"/>
            <a:ext cx="358560" cy="647640"/>
          </a:xfrm>
          <a:prstGeom prst="line">
            <a:avLst/>
          </a:prstGeom>
          <a:ln w="190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15"/>
          <p:cNvSpPr/>
          <p:nvPr/>
        </p:nvSpPr>
        <p:spPr>
          <a:xfrm>
            <a:off x="7093080" y="1779480"/>
            <a:ext cx="358560" cy="647640"/>
          </a:xfrm>
          <a:prstGeom prst="line">
            <a:avLst/>
          </a:prstGeom>
          <a:ln w="190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16"/>
          <p:cNvSpPr/>
          <p:nvPr/>
        </p:nvSpPr>
        <p:spPr>
          <a:xfrm>
            <a:off x="7093080" y="16351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Задач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17"/>
          <p:cNvSpPr/>
          <p:nvPr/>
        </p:nvSpPr>
        <p:spPr>
          <a:xfrm>
            <a:off x="6372360" y="127620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Выгод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20"/>
          <p:cNvSpPr/>
          <p:nvPr/>
        </p:nvSpPr>
        <p:spPr>
          <a:xfrm>
            <a:off x="2050920" y="115236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Функции выгод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1"/>
          <p:cNvSpPr/>
          <p:nvPr/>
        </p:nvSpPr>
        <p:spPr>
          <a:xfrm>
            <a:off x="6372360" y="19242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Б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Ромб 22"/>
          <p:cNvSpPr/>
          <p:nvPr/>
        </p:nvSpPr>
        <p:spPr>
          <a:xfrm>
            <a:off x="1763640" y="1512720"/>
            <a:ext cx="71640" cy="730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Ромб 23"/>
          <p:cNvSpPr/>
          <p:nvPr/>
        </p:nvSpPr>
        <p:spPr>
          <a:xfrm>
            <a:off x="1979640" y="2162160"/>
            <a:ext cx="71280" cy="712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Ромб 24"/>
          <p:cNvSpPr/>
          <p:nvPr/>
        </p:nvSpPr>
        <p:spPr>
          <a:xfrm>
            <a:off x="7524720" y="1635120"/>
            <a:ext cx="71640" cy="730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Ромб 25"/>
          <p:cNvSpPr/>
          <p:nvPr/>
        </p:nvSpPr>
        <p:spPr>
          <a:xfrm>
            <a:off x="6804000" y="1924200"/>
            <a:ext cx="71640" cy="712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Ромб 26"/>
          <p:cNvSpPr/>
          <p:nvPr/>
        </p:nvSpPr>
        <p:spPr>
          <a:xfrm>
            <a:off x="6804000" y="1276200"/>
            <a:ext cx="71640" cy="7164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27"/>
          <p:cNvSpPr/>
          <p:nvPr/>
        </p:nvSpPr>
        <p:spPr>
          <a:xfrm>
            <a:off x="1547640" y="1081080"/>
            <a:ext cx="1490760" cy="127476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ая соединительная линия 29"/>
          <p:cNvSpPr/>
          <p:nvPr/>
        </p:nvSpPr>
        <p:spPr>
          <a:xfrm>
            <a:off x="1547640" y="1081080"/>
            <a:ext cx="792360" cy="647640"/>
          </a:xfrm>
          <a:prstGeom prst="line">
            <a:avLst/>
          </a:prstGeom>
          <a:ln w="190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ая соединительная линия 31"/>
          <p:cNvSpPr/>
          <p:nvPr/>
        </p:nvSpPr>
        <p:spPr>
          <a:xfrm flipV="1">
            <a:off x="1619280" y="1728360"/>
            <a:ext cx="720720" cy="576360"/>
          </a:xfrm>
          <a:prstGeom prst="line">
            <a:avLst/>
          </a:prstGeom>
          <a:ln w="190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ая соединительная линия 38"/>
          <p:cNvSpPr/>
          <p:nvPr/>
        </p:nvSpPr>
        <p:spPr>
          <a:xfrm flipV="1">
            <a:off x="2340000" y="1719360"/>
            <a:ext cx="698400" cy="9360"/>
          </a:xfrm>
          <a:prstGeom prst="line">
            <a:avLst/>
          </a:prstGeom>
          <a:ln w="1908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Ромб 55"/>
          <p:cNvSpPr/>
          <p:nvPr/>
        </p:nvSpPr>
        <p:spPr>
          <a:xfrm>
            <a:off x="1979640" y="1225440"/>
            <a:ext cx="71280" cy="7164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Ромб 56"/>
          <p:cNvSpPr/>
          <p:nvPr/>
        </p:nvSpPr>
        <p:spPr>
          <a:xfrm>
            <a:off x="4643280" y="1635120"/>
            <a:ext cx="73080" cy="7308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57"/>
          <p:cNvSpPr/>
          <p:nvPr/>
        </p:nvSpPr>
        <p:spPr>
          <a:xfrm>
            <a:off x="1979640" y="2571840"/>
            <a:ext cx="230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mbria Math"/>
              </a:rPr>
              <a:t>Игра «Зарниц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58"/>
          <p:cNvSpPr/>
          <p:nvPr/>
        </p:nvSpPr>
        <p:spPr>
          <a:xfrm>
            <a:off x="2050920" y="194472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Функции помощ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59"/>
          <p:cNvSpPr/>
          <p:nvPr/>
        </p:nvSpPr>
        <p:spPr>
          <a:xfrm>
            <a:off x="1476360" y="15127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Продук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60"/>
          <p:cNvSpPr/>
          <p:nvPr/>
        </p:nvSpPr>
        <p:spPr>
          <a:xfrm>
            <a:off x="684360" y="257184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Наше реш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62"/>
          <p:cNvSpPr/>
          <p:nvPr/>
        </p:nvSpPr>
        <p:spPr>
          <a:xfrm>
            <a:off x="1979640" y="2859120"/>
            <a:ext cx="2376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4"/>
          <p:cNvSpPr/>
          <p:nvPr/>
        </p:nvSpPr>
        <p:spPr>
          <a:xfrm>
            <a:off x="4427640" y="257184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помога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ая соединительная линия 65"/>
          <p:cNvSpPr/>
          <p:nvPr/>
        </p:nvSpPr>
        <p:spPr>
          <a:xfrm>
            <a:off x="5724360" y="2859120"/>
            <a:ext cx="2880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66"/>
          <p:cNvSpPr/>
          <p:nvPr/>
        </p:nvSpPr>
        <p:spPr>
          <a:xfrm>
            <a:off x="611280" y="300348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который хоч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68"/>
          <p:cNvSpPr/>
          <p:nvPr/>
        </p:nvSpPr>
        <p:spPr>
          <a:xfrm>
            <a:off x="5651640" y="2571840"/>
            <a:ext cx="309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mbria Math"/>
              </a:rPr>
              <a:t>Ребенку средней школ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69"/>
          <p:cNvSpPr/>
          <p:nvPr/>
        </p:nvSpPr>
        <p:spPr>
          <a:xfrm>
            <a:off x="1908000" y="3292560"/>
            <a:ext cx="6696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2"/>
          <p:cNvSpPr/>
          <p:nvPr/>
        </p:nvSpPr>
        <p:spPr>
          <a:xfrm>
            <a:off x="468360" y="3363840"/>
            <a:ext cx="12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95959"/>
                </a:solidFill>
                <a:latin typeface="Cambria Math"/>
              </a:rPr>
              <a:t>тем, чт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Прямая со стрелкой 77"/>
          <p:cNvCxnSpPr/>
          <p:nvPr/>
        </p:nvCxnSpPr>
        <p:spPr>
          <a:xfrm>
            <a:off x="4427640" y="1347480"/>
            <a:ext cx="505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4" name="Прямая со стрелкой 78"/>
          <p:cNvCxnSpPr/>
          <p:nvPr/>
        </p:nvCxnSpPr>
        <p:spPr>
          <a:xfrm>
            <a:off x="4427640" y="2066400"/>
            <a:ext cx="505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45" name="Прямоугольник 79"/>
          <p:cNvSpPr/>
          <p:nvPr/>
        </p:nvSpPr>
        <p:spPr>
          <a:xfrm>
            <a:off x="2050920" y="2787480"/>
            <a:ext cx="230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Cambria Math"/>
              </a:rPr>
              <a:t>название реш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80"/>
          <p:cNvSpPr/>
          <p:nvPr/>
        </p:nvSpPr>
        <p:spPr>
          <a:xfrm>
            <a:off x="5796000" y="2787480"/>
            <a:ext cx="230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Cambria Math"/>
              </a:rPr>
              <a:t>краткое описание клиен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85"/>
          <p:cNvSpPr/>
          <p:nvPr/>
        </p:nvSpPr>
        <p:spPr>
          <a:xfrm>
            <a:off x="3780000" y="3219480"/>
            <a:ext cx="230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Cambria Math"/>
              </a:rPr>
              <a:t>ключевая потребность/задач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90"/>
          <p:cNvSpPr/>
          <p:nvPr/>
        </p:nvSpPr>
        <p:spPr>
          <a:xfrm>
            <a:off x="468360" y="1347840"/>
            <a:ext cx="1008000" cy="64764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mbria Math"/>
              </a:rPr>
              <a:t>Игра «Зарниц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91"/>
          <p:cNvSpPr/>
          <p:nvPr/>
        </p:nvSpPr>
        <p:spPr>
          <a:xfrm>
            <a:off x="3132000" y="1058760"/>
            <a:ext cx="1224000" cy="64944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76092"/>
                </a:solidFill>
                <a:latin typeface="Cambria Math"/>
              </a:rPr>
              <a:t>Вовлечены ранее не задействованные группы школьни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92"/>
          <p:cNvSpPr/>
          <p:nvPr/>
        </p:nvSpPr>
        <p:spPr>
          <a:xfrm>
            <a:off x="3132000" y="1779480"/>
            <a:ext cx="1224000" cy="64764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76092"/>
                </a:solidFill>
                <a:latin typeface="Cambria Math"/>
              </a:rPr>
              <a:t>Внедрена новая форма воспитания для детей 5-11 класс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93"/>
          <p:cNvSpPr/>
          <p:nvPr/>
        </p:nvSpPr>
        <p:spPr>
          <a:xfrm>
            <a:off x="4932360" y="1058760"/>
            <a:ext cx="1368360" cy="64944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76092"/>
                </a:solidFill>
                <a:latin typeface="Cambria Math"/>
              </a:rPr>
              <a:t>Формирование у ребенка личных убеждений по осознанию себя патриотом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94"/>
          <p:cNvSpPr/>
          <p:nvPr/>
        </p:nvSpPr>
        <p:spPr>
          <a:xfrm>
            <a:off x="4932360" y="1779480"/>
            <a:ext cx="1295280" cy="64764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76092"/>
                </a:solidFill>
                <a:latin typeface="Cambria Math"/>
              </a:rPr>
              <a:t>Восприятие ребенка себя патриото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95"/>
          <p:cNvSpPr/>
          <p:nvPr/>
        </p:nvSpPr>
        <p:spPr>
          <a:xfrm>
            <a:off x="7956720" y="1214280"/>
            <a:ext cx="1008000" cy="107172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76092"/>
                </a:solidFill>
                <a:latin typeface="Cambria Math"/>
              </a:rPr>
              <a:t>Побуждение детей для проявления активности в мероприятиях военно-патриотической направленно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99"/>
          <p:cNvSpPr/>
          <p:nvPr/>
        </p:nvSpPr>
        <p:spPr>
          <a:xfrm>
            <a:off x="2287440" y="3040200"/>
            <a:ext cx="367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mbria Math"/>
              </a:rPr>
              <a:t>Воспринимать себя патриотом своей стра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Группа 109"/>
          <p:cNvGrpSpPr/>
          <p:nvPr/>
        </p:nvGrpSpPr>
        <p:grpSpPr>
          <a:xfrm>
            <a:off x="900000" y="3651120"/>
            <a:ext cx="7920000" cy="433440"/>
            <a:chOff x="900000" y="3651120"/>
            <a:chExt cx="7920000" cy="433440"/>
          </a:xfrm>
        </p:grpSpPr>
        <p:sp>
          <p:nvSpPr>
            <p:cNvPr id="656" name="Прямоугольник 100"/>
            <p:cNvSpPr/>
            <p:nvPr/>
          </p:nvSpPr>
          <p:spPr>
            <a:xfrm>
              <a:off x="4211640" y="3651120"/>
              <a:ext cx="12967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595959"/>
                  </a:solidFill>
                  <a:latin typeface="Cambria Math"/>
                </a:rPr>
                <a:t>благодар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Прямая соединительная линия 101"/>
            <p:cNvSpPr/>
            <p:nvPr/>
          </p:nvSpPr>
          <p:spPr>
            <a:xfrm>
              <a:off x="900000" y="3868560"/>
              <a:ext cx="3527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Прямоугольник 104"/>
            <p:cNvSpPr/>
            <p:nvPr/>
          </p:nvSpPr>
          <p:spPr>
            <a:xfrm>
              <a:off x="1476000" y="3795480"/>
              <a:ext cx="2303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404040"/>
                  </a:solidFill>
                  <a:latin typeface="Cambria Math"/>
                </a:rPr>
                <a:t>получить выгоду или избежать «боль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Прямая соединительная линия 105"/>
            <p:cNvSpPr/>
            <p:nvPr/>
          </p:nvSpPr>
          <p:spPr>
            <a:xfrm>
              <a:off x="5292720" y="3868560"/>
              <a:ext cx="3527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Прямоугольник 106"/>
            <p:cNvSpPr/>
            <p:nvPr/>
          </p:nvSpPr>
          <p:spPr>
            <a:xfrm>
              <a:off x="5867280" y="3795480"/>
              <a:ext cx="2305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404040"/>
                  </a:solidFill>
                  <a:latin typeface="Cambria Math"/>
                </a:rPr>
                <a:t>функция реш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Прямоугольник 107"/>
          <p:cNvSpPr/>
          <p:nvPr/>
        </p:nvSpPr>
        <p:spPr>
          <a:xfrm>
            <a:off x="826920" y="3579840"/>
            <a:ext cx="352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mbria Math"/>
              </a:rPr>
              <a:t>поможет сформировать необходимые навыки и убеж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108"/>
          <p:cNvSpPr/>
          <p:nvPr/>
        </p:nvSpPr>
        <p:spPr>
          <a:xfrm>
            <a:off x="5292720" y="3579840"/>
            <a:ext cx="37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mbria Math"/>
              </a:rPr>
              <a:t>созданию сплоченных, целеустремленных коллективов в рамках иг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110"/>
          <p:cNvGrpSpPr/>
          <p:nvPr/>
        </p:nvGrpSpPr>
        <p:grpSpPr>
          <a:xfrm>
            <a:off x="900000" y="4156200"/>
            <a:ext cx="7920000" cy="431640"/>
            <a:chOff x="900000" y="4156200"/>
            <a:chExt cx="7920000" cy="431640"/>
          </a:xfrm>
        </p:grpSpPr>
        <p:sp>
          <p:nvSpPr>
            <p:cNvPr id="664" name="Прямоугольник 111"/>
            <p:cNvSpPr/>
            <p:nvPr/>
          </p:nvSpPr>
          <p:spPr>
            <a:xfrm>
              <a:off x="4211640" y="41562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595959"/>
                  </a:solidFill>
                  <a:latin typeface="Cambria Math"/>
                </a:rPr>
                <a:t>благодар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Прямая соединительная линия 112"/>
            <p:cNvSpPr/>
            <p:nvPr/>
          </p:nvSpPr>
          <p:spPr>
            <a:xfrm>
              <a:off x="900000" y="4371840"/>
              <a:ext cx="3527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Прямоугольник 113"/>
            <p:cNvSpPr/>
            <p:nvPr/>
          </p:nvSpPr>
          <p:spPr>
            <a:xfrm>
              <a:off x="1476000" y="4300560"/>
              <a:ext cx="230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404040"/>
                  </a:solidFill>
                  <a:latin typeface="Cambria Math"/>
                </a:rPr>
                <a:t>получить выгоду или избежать «боль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Прямая соединительная линия 114"/>
            <p:cNvSpPr/>
            <p:nvPr/>
          </p:nvSpPr>
          <p:spPr>
            <a:xfrm>
              <a:off x="5292720" y="4371840"/>
              <a:ext cx="3527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Прямоугольник 115"/>
            <p:cNvSpPr/>
            <p:nvPr/>
          </p:nvSpPr>
          <p:spPr>
            <a:xfrm>
              <a:off x="5867280" y="4300560"/>
              <a:ext cx="2305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404040"/>
                  </a:solidFill>
                  <a:latin typeface="Cambria Math"/>
                </a:rPr>
                <a:t>функция реш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Прямоугольник 122"/>
          <p:cNvSpPr/>
          <p:nvPr/>
        </p:nvSpPr>
        <p:spPr>
          <a:xfrm>
            <a:off x="684360" y="4084560"/>
            <a:ext cx="38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mbria Math"/>
              </a:rPr>
              <a:t>повысить уровень знаний о своей стране, области, район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24"/>
          <p:cNvSpPr/>
          <p:nvPr/>
        </p:nvSpPr>
        <p:spPr>
          <a:xfrm>
            <a:off x="5203800" y="4116240"/>
            <a:ext cx="3940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mbria Math"/>
              </a:rPr>
              <a:t>конкурсам, проводимым в ходе иг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Рисунок 126" descr="1670766792_grizly-club-p-galochka-png-9.png"/>
          <p:cNvPicPr/>
          <p:nvPr/>
        </p:nvPicPr>
        <p:blipFill>
          <a:blip r:embed="rId1"/>
          <a:stretch/>
        </p:blipFill>
        <p:spPr>
          <a:xfrm>
            <a:off x="0" y="4371840"/>
            <a:ext cx="771480" cy="771840"/>
          </a:xfrm>
          <a:prstGeom prst="rect">
            <a:avLst/>
          </a:prstGeom>
          <a:ln w="0">
            <a:noFill/>
          </a:ln>
        </p:spPr>
      </p:pic>
      <p:pic>
        <p:nvPicPr>
          <p:cNvPr id="672" name="Рисунок 127" descr="png-transparent-computer-icons-star-font-awesome-x-mark-angle-leaf-text.png"/>
          <p:cNvPicPr/>
          <p:nvPr/>
        </p:nvPicPr>
        <p:blipFill>
          <a:blip r:embed="rId2"/>
          <a:stretch/>
        </p:blipFill>
        <p:spPr>
          <a:xfrm>
            <a:off x="0" y="3724200"/>
            <a:ext cx="70020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МЕТРИКИ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324000" y="1143000"/>
          <a:ext cx="8569080" cy="2711520"/>
        </p:xfrm>
        <a:graphic>
          <a:graphicData uri="http://schemas.openxmlformats.org/drawingml/2006/table">
            <a:tbl>
              <a:tblPr/>
              <a:tblGrid>
                <a:gridCol w="442800"/>
                <a:gridCol w="4233960"/>
                <a:gridCol w="1643040"/>
                <a:gridCol w="1000080"/>
                <a:gridCol w="1249200"/>
              </a:tblGrid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метр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 на вх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ь на вых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Вовлеченность обучающихся в различные формирования военно-патриот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Проводился монитор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Уровень осведомленности обучающихся о компонентах патриотических знаний, чувств, взглядов, убеждений, ценностей, ориентаций, высоких иде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Проводился монитор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75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9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Уровень проявления активности детей в мероприятиях военно-патриотическ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Проводился монитор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5" name="Рисунок 3" descr="1670766792_grizly-club-p-galochka-png-9.png"/>
          <p:cNvPicPr/>
          <p:nvPr/>
        </p:nvPicPr>
        <p:blipFill>
          <a:blip r:embed="rId1"/>
          <a:stretch/>
        </p:blipFill>
        <p:spPr>
          <a:xfrm>
            <a:off x="0" y="4371840"/>
            <a:ext cx="771480" cy="771840"/>
          </a:xfrm>
          <a:prstGeom prst="rect">
            <a:avLst/>
          </a:prstGeom>
          <a:ln w="0">
            <a:noFill/>
          </a:ln>
        </p:spPr>
      </p:pic>
      <p:pic>
        <p:nvPicPr>
          <p:cNvPr id="676" name="Рисунок 4" descr="png-transparent-computer-icons-star-font-awesome-x-mark-angle-leaf-text.png"/>
          <p:cNvPicPr/>
          <p:nvPr/>
        </p:nvPicPr>
        <p:blipFill>
          <a:blip r:embed="rId2"/>
          <a:stretch/>
        </p:blipFill>
        <p:spPr>
          <a:xfrm>
            <a:off x="826920" y="4371840"/>
            <a:ext cx="700200" cy="7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ПРОЕКТНЫЙ П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Стрелка вправо 20"/>
          <p:cNvSpPr/>
          <p:nvPr/>
        </p:nvSpPr>
        <p:spPr>
          <a:xfrm>
            <a:off x="696960" y="4861080"/>
            <a:ext cx="7989840" cy="237960"/>
          </a:xfrm>
          <a:prstGeom prst="rightArrow">
            <a:avLst>
              <a:gd name="adj1" fmla="val 20000"/>
              <a:gd name="adj2" fmla="val 84096"/>
            </a:avLst>
          </a:prstGeom>
          <a:solidFill>
            <a:srgbClr val="7f7f7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22"/>
          <p:cNvSpPr/>
          <p:nvPr/>
        </p:nvSpPr>
        <p:spPr>
          <a:xfrm flipV="1">
            <a:off x="755640" y="2007720"/>
            <a:ext cx="7931160" cy="2544840"/>
          </a:xfrm>
          <a:prstGeom prst="line">
            <a:avLst/>
          </a:prstGeom>
          <a:ln w="28440">
            <a:solidFill>
              <a:srgbClr val="ed7d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23"/>
          <p:cNvSpPr/>
          <p:nvPr/>
        </p:nvSpPr>
        <p:spPr>
          <a:xfrm>
            <a:off x="2693880" y="4378320"/>
            <a:ext cx="3240" cy="565200"/>
          </a:xfrm>
          <a:prstGeom prst="line">
            <a:avLst/>
          </a:prstGeom>
          <a:ln w="1908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25"/>
          <p:cNvSpPr/>
          <p:nvPr/>
        </p:nvSpPr>
        <p:spPr>
          <a:xfrm>
            <a:off x="4802040" y="3867120"/>
            <a:ext cx="0" cy="1082880"/>
          </a:xfrm>
          <a:prstGeom prst="line">
            <a:avLst/>
          </a:prstGeom>
          <a:ln w="1908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26"/>
          <p:cNvSpPr/>
          <p:nvPr/>
        </p:nvSpPr>
        <p:spPr>
          <a:xfrm flipH="1">
            <a:off x="6778800" y="3219480"/>
            <a:ext cx="23760" cy="1724040"/>
          </a:xfrm>
          <a:prstGeom prst="line">
            <a:avLst/>
          </a:prstGeom>
          <a:ln w="1908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8"/>
          <p:cNvSpPr/>
          <p:nvPr/>
        </p:nvSpPr>
        <p:spPr>
          <a:xfrm>
            <a:off x="771480" y="2660760"/>
            <a:ext cx="1762200" cy="1225440"/>
          </a:xfrm>
          <a:prstGeom prst="rect">
            <a:avLst/>
          </a:prstGeom>
          <a:noFill/>
          <a:ln w="936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нкурс «Смотр строя и песн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Изготовление открыток участникам С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Зимняя игра «Зарниц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"/>
          <p:cNvSpPr/>
          <p:nvPr/>
        </p:nvSpPr>
        <p:spPr>
          <a:xfrm>
            <a:off x="770760" y="458964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Roboto Medium"/>
                <a:ea typeface="Roboto Medium"/>
              </a:rPr>
              <a:t>декабрь-февраль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33"/>
          <p:cNvSpPr/>
          <p:nvPr/>
        </p:nvSpPr>
        <p:spPr>
          <a:xfrm>
            <a:off x="2873520" y="1969920"/>
            <a:ext cx="1760400" cy="1292400"/>
          </a:xfrm>
          <a:prstGeom prst="rect">
            <a:avLst/>
          </a:prstGeom>
          <a:noFill/>
          <a:ln w="936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Весеннии туристические соревнования учащих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Акция «Сад Памят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Акция «Бессмертный полк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есенняя игра «Зарниц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34"/>
          <p:cNvSpPr/>
          <p:nvPr/>
        </p:nvSpPr>
        <p:spPr>
          <a:xfrm>
            <a:off x="4913280" y="1576440"/>
            <a:ext cx="1760400" cy="1073160"/>
          </a:xfrm>
          <a:prstGeom prst="rect">
            <a:avLst/>
          </a:prstGeom>
          <a:noFill/>
          <a:ln w="936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Туристические поход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Посещение музее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Посещение кинотеатр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кскурсии по местам боевой слав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1"/>
          <p:cNvSpPr/>
          <p:nvPr/>
        </p:nvSpPr>
        <p:spPr>
          <a:xfrm>
            <a:off x="2678760" y="458460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Roboto Medium"/>
                <a:ea typeface="Roboto Medium"/>
              </a:rPr>
              <a:t>март-май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"/>
          <p:cNvSpPr/>
          <p:nvPr/>
        </p:nvSpPr>
        <p:spPr>
          <a:xfrm>
            <a:off x="4830480" y="458784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Roboto Medium"/>
                <a:ea typeface="Roboto Medium"/>
              </a:rPr>
              <a:t>июнь-август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"/>
          <p:cNvSpPr/>
          <p:nvPr/>
        </p:nvSpPr>
        <p:spPr>
          <a:xfrm>
            <a:off x="6733800" y="4584600"/>
            <a:ext cx="191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Roboto Medium"/>
                <a:ea typeface="Roboto Medium"/>
              </a:rPr>
              <a:t>сентябрь-ноябрь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44"/>
          <p:cNvSpPr/>
          <p:nvPr/>
        </p:nvSpPr>
        <p:spPr>
          <a:xfrm>
            <a:off x="6858000" y="1587600"/>
            <a:ext cx="1765440" cy="763560"/>
          </a:xfrm>
          <a:prstGeom prst="rect">
            <a:avLst/>
          </a:prstGeom>
          <a:noFill/>
          <a:ln w="936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День здоров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роки муж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Осенние туристические соревн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45"/>
          <p:cNvSpPr/>
          <p:nvPr/>
        </p:nvSpPr>
        <p:spPr>
          <a:xfrm>
            <a:off x="468360" y="928800"/>
            <a:ext cx="8218440" cy="590400"/>
          </a:xfrm>
          <a:prstGeom prst="rect">
            <a:avLst/>
          </a:prstGeom>
          <a:solidFill>
            <a:srgbClr val="ffffff"/>
          </a:solidFill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 ПРОЕКТА: К концу 2024 года обеспечить охват не менее 90 % обучающихся 5-11 классов Прохоровского района мероприятиями гражданско-патриотической направленности с участием каждого обучающегося не менее чем в 5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Рисунок 16" descr="1670766792_grizly-club-p-galochka-png-9.png"/>
          <p:cNvPicPr/>
          <p:nvPr/>
        </p:nvPicPr>
        <p:blipFill>
          <a:blip r:embed="rId1"/>
          <a:stretch/>
        </p:blipFill>
        <p:spPr>
          <a:xfrm>
            <a:off x="0" y="4371840"/>
            <a:ext cx="771480" cy="771840"/>
          </a:xfrm>
          <a:prstGeom prst="rect">
            <a:avLst/>
          </a:prstGeom>
          <a:ln w="0">
            <a:noFill/>
          </a:ln>
        </p:spPr>
      </p:pic>
      <p:pic>
        <p:nvPicPr>
          <p:cNvPr id="693" name="Рисунок 17" descr="png-transparent-computer-icons-star-font-awesome-x-mark-angle-leaf-text.png"/>
          <p:cNvPicPr/>
          <p:nvPr/>
        </p:nvPicPr>
        <p:blipFill>
          <a:blip r:embed="rId2"/>
          <a:stretch/>
        </p:blipFill>
        <p:spPr>
          <a:xfrm>
            <a:off x="55440" y="3724200"/>
            <a:ext cx="70020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РЕСУРСЫ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3" descr="1670766792_grizly-club-p-galochka-png-9.png"/>
          <p:cNvPicPr/>
          <p:nvPr/>
        </p:nvPicPr>
        <p:blipFill>
          <a:blip r:embed="rId1"/>
          <a:stretch/>
        </p:blipFill>
        <p:spPr>
          <a:xfrm>
            <a:off x="0" y="4371840"/>
            <a:ext cx="771480" cy="77184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4" descr="png-transparent-computer-icons-star-font-awesome-x-mark-angle-leaf-text.png"/>
          <p:cNvPicPr/>
          <p:nvPr/>
        </p:nvPicPr>
        <p:blipFill>
          <a:blip r:embed="rId2"/>
          <a:stretch/>
        </p:blipFill>
        <p:spPr>
          <a:xfrm>
            <a:off x="55440" y="3724200"/>
            <a:ext cx="700200" cy="698400"/>
          </a:xfrm>
          <a:prstGeom prst="rect">
            <a:avLst/>
          </a:prstGeom>
          <a:ln w="0">
            <a:noFill/>
          </a:ln>
        </p:spPr>
      </p:pic>
      <p:sp>
        <p:nvSpPr>
          <p:cNvPr id="697" name="Прямоугольник 39"/>
          <p:cNvSpPr/>
          <p:nvPr/>
        </p:nvSpPr>
        <p:spPr>
          <a:xfrm>
            <a:off x="500040" y="1214280"/>
            <a:ext cx="2862360" cy="209880"/>
          </a:xfrm>
          <a:prstGeom prst="rect">
            <a:avLst/>
          </a:prstGeom>
          <a:gradFill rotWithShape="0">
            <a:gsLst>
              <a:gs pos="0">
                <a:srgbClr val="315683"/>
              </a:gs>
              <a:gs pos="100000">
                <a:srgbClr val="95b3d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Оказание содействия сторонних организа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3"/>
          <a:srcRect l="4871" t="21302" r="29393" b="28487"/>
          <a:stretch/>
        </p:blipFill>
        <p:spPr>
          <a:xfrm>
            <a:off x="1000080" y="1571760"/>
            <a:ext cx="2103480" cy="128592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оугольник 15"/>
          <p:cNvSpPr/>
          <p:nvPr/>
        </p:nvSpPr>
        <p:spPr>
          <a:xfrm>
            <a:off x="1504080" y="3000240"/>
            <a:ext cx="115848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900" spc="-1" strike="noStrike">
                <a:solidFill>
                  <a:srgbClr val="2b2b2b"/>
                </a:solidFill>
                <a:latin typeface="Calibri"/>
              </a:rPr>
              <a:t>Прелестненская СО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39"/>
          <p:cNvSpPr/>
          <p:nvPr/>
        </p:nvSpPr>
        <p:spPr>
          <a:xfrm>
            <a:off x="5214960" y="1214280"/>
            <a:ext cx="2862360" cy="209880"/>
          </a:xfrm>
          <a:prstGeom prst="rect">
            <a:avLst/>
          </a:prstGeom>
          <a:gradFill rotWithShape="0">
            <a:gsLst>
              <a:gs pos="0">
                <a:srgbClr val="315683"/>
              </a:gs>
              <a:gs pos="100000">
                <a:srgbClr val="95b3d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Оказание содействия сторонних организа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0"/>
          <p:cNvSpPr/>
          <p:nvPr/>
        </p:nvSpPr>
        <p:spPr>
          <a:xfrm>
            <a:off x="4143240" y="1571760"/>
            <a:ext cx="457200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КУ «Управление культуры и туризма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КУ «Управление физической культуры, спорта и молодежной политики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хоровская районная общественная организация ветеранов(пенсионеров) войны, труда. Вооруженных Сил и правоохранительных орган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ГБУЗ «Прохоровская ЦРБ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лавы сельских поселе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4"/>
          <p:cNvSpPr/>
          <p:nvPr/>
        </p:nvSpPr>
        <p:spPr>
          <a:xfrm>
            <a:off x="4143240" y="1522440"/>
            <a:ext cx="4429440" cy="1477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5"/>
          <p:cNvSpPr/>
          <p:nvPr/>
        </p:nvSpPr>
        <p:spPr>
          <a:xfrm>
            <a:off x="5511960" y="3284640"/>
            <a:ext cx="1834920" cy="382320"/>
          </a:xfrm>
          <a:prstGeom prst="rect">
            <a:avLst/>
          </a:prstGeom>
          <a:gradFill rotWithShape="0">
            <a:gsLst>
              <a:gs pos="0">
                <a:srgbClr val="315683"/>
              </a:gs>
              <a:gs pos="100000">
                <a:srgbClr val="95b3d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Ресур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4143240" y="3897360"/>
          <a:ext cx="4357800" cy="654120"/>
        </p:xfrm>
        <a:graphic>
          <a:graphicData uri="http://schemas.openxmlformats.org/drawingml/2006/table">
            <a:tbl>
              <a:tblPr/>
              <a:tblGrid>
                <a:gridCol w="3515040"/>
                <a:gridCol w="842760"/>
              </a:tblGrid>
              <a:tr h="1681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урсные мероприя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на ГСМ для доставки участников соревно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 000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акции «Сад Памяти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00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 000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МЫ ГОВОРИМ СПАСИБ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Содержимое 2"/>
          <p:cNvSpPr/>
          <p:nvPr/>
        </p:nvSpPr>
        <p:spPr>
          <a:xfrm>
            <a:off x="457200" y="134784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благодарю себя за активную работу проведённую в рамках муниципального акселератора проектов по сервис- дизай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благодарю за помощь директора МБОУ «Прелестненская СОШ», директора МБОУ «Прохоровская гимназия» за помощь в проведении анкетирования и опроса среди обучающихся 9 кла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очень благодарна наставнику нашей команды Лашиной О.С.  за оказанную помощь в составлении «Карты пути клиента». Ольга Сергеевна подробно и чётко объяснила, как провести проверку прото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Рисунок 3" descr="1670766792_grizly-club-p-galochka-png-9.png"/>
          <p:cNvPicPr/>
          <p:nvPr/>
        </p:nvPicPr>
        <p:blipFill>
          <a:blip r:embed="rId1"/>
          <a:stretch/>
        </p:blipFill>
        <p:spPr>
          <a:xfrm>
            <a:off x="0" y="4371840"/>
            <a:ext cx="771480" cy="771840"/>
          </a:xfrm>
          <a:prstGeom prst="rect">
            <a:avLst/>
          </a:prstGeom>
          <a:ln w="0">
            <a:noFill/>
          </a:ln>
        </p:spPr>
      </p:pic>
      <p:pic>
        <p:nvPicPr>
          <p:cNvPr id="708" name="Рисунок 4" descr="png-transparent-computer-icons-star-font-awesome-x-mark-angle-leaf-text.png"/>
          <p:cNvPicPr/>
          <p:nvPr/>
        </p:nvPicPr>
        <p:blipFill>
          <a:blip r:embed="rId2"/>
          <a:stretch/>
        </p:blipFill>
        <p:spPr>
          <a:xfrm>
            <a:off x="34920" y="3724200"/>
            <a:ext cx="70020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СОСТАВ КОМАНДЫ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7" descr="png-transparent-computer-icons-star-font-awesome-x-mark-angle-leaf-text.png"/>
          <p:cNvPicPr/>
          <p:nvPr/>
        </p:nvPicPr>
        <p:blipFill>
          <a:blip r:embed="rId1"/>
          <a:stretch/>
        </p:blipFill>
        <p:spPr>
          <a:xfrm>
            <a:off x="250920" y="430056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5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1214640" cy="157176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6" descr=""/>
          <p:cNvPicPr/>
          <p:nvPr/>
        </p:nvPicPr>
        <p:blipFill>
          <a:blip r:embed="rId3"/>
          <a:stretch/>
        </p:blipFill>
        <p:spPr>
          <a:xfrm>
            <a:off x="3071880" y="2286000"/>
            <a:ext cx="1332000" cy="164304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7" descr=""/>
          <p:cNvPicPr/>
          <p:nvPr/>
        </p:nvPicPr>
        <p:blipFill>
          <a:blip r:embed="rId4"/>
          <a:stretch/>
        </p:blipFill>
        <p:spPr>
          <a:xfrm>
            <a:off x="5786280" y="228600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8"/>
          <p:cNvSpPr/>
          <p:nvPr/>
        </p:nvSpPr>
        <p:spPr>
          <a:xfrm>
            <a:off x="500040" y="4243320"/>
            <a:ext cx="1285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Линьков Алексей Николаевич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подаватель-организатор ОБЖ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БОУ «Журавская  СОШ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9"/>
          <p:cNvSpPr/>
          <p:nvPr/>
        </p:nvSpPr>
        <p:spPr>
          <a:xfrm>
            <a:off x="2928960" y="4186080"/>
            <a:ext cx="16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узанаков Владимир Юрьевич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ректор, преподаватель-организатор ОБЖ МБОУ «Прелестненская СОШ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0"/>
          <p:cNvSpPr/>
          <p:nvPr/>
        </p:nvSpPr>
        <p:spPr>
          <a:xfrm flipH="1">
            <a:off x="5857200" y="4186080"/>
            <a:ext cx="1428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ьков Евгений Юрьевич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дагог дополнительного образования МБУ ДО «Детско -юношеский центр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11" descr=""/>
          <p:cNvPicPr/>
          <p:nvPr/>
        </p:nvPicPr>
        <p:blipFill>
          <a:blip r:embed="rId5"/>
          <a:stretch/>
        </p:blipFill>
        <p:spPr>
          <a:xfrm>
            <a:off x="1643040" y="2357280"/>
            <a:ext cx="1357200" cy="15717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2" descr=""/>
          <p:cNvPicPr/>
          <p:nvPr/>
        </p:nvPicPr>
        <p:blipFill>
          <a:blip r:embed="rId6"/>
          <a:stretch/>
        </p:blipFill>
        <p:spPr>
          <a:xfrm>
            <a:off x="4429080" y="2286000"/>
            <a:ext cx="1285920" cy="164304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13" descr=""/>
          <p:cNvPicPr/>
          <p:nvPr/>
        </p:nvPicPr>
        <p:blipFill>
          <a:blip r:embed="rId7"/>
          <a:stretch/>
        </p:blipFill>
        <p:spPr>
          <a:xfrm>
            <a:off x="7286760" y="2286000"/>
            <a:ext cx="1143000" cy="164304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14"/>
          <p:cNvSpPr/>
          <p:nvPr/>
        </p:nvSpPr>
        <p:spPr>
          <a:xfrm>
            <a:off x="1857240" y="4186080"/>
            <a:ext cx="10717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ванкова Евгения Николаевна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тодист МБУ ДО «Детско -юношеский центр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5"/>
          <p:cNvSpPr/>
          <p:nvPr/>
        </p:nvSpPr>
        <p:spPr>
          <a:xfrm>
            <a:off x="4286160" y="4186080"/>
            <a:ext cx="16430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лугина Наталья Сергеевна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тодист МБУ ДО «Детско -юношеский центр», руководитель коман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6"/>
          <p:cNvSpPr/>
          <p:nvPr/>
        </p:nvSpPr>
        <p:spPr>
          <a:xfrm>
            <a:off x="7286760" y="4186080"/>
            <a:ext cx="128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расимова Лариса Яковлевна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МБОУ «Прохоровская гимназия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C:\Users\Пользователь\Downloads\i.jpg"/>
          <p:cNvPicPr/>
          <p:nvPr/>
        </p:nvPicPr>
        <p:blipFill>
          <a:blip r:embed="rId8"/>
          <a:srcRect l="0" t="5273" r="0" b="0"/>
          <a:stretch/>
        </p:blipFill>
        <p:spPr>
          <a:xfrm>
            <a:off x="8072280" y="0"/>
            <a:ext cx="1071720" cy="1928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18"/>
          <p:cNvSpPr/>
          <p:nvPr/>
        </p:nvSpPr>
        <p:spPr>
          <a:xfrm>
            <a:off x="8215200" y="1928880"/>
            <a:ext cx="9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ашина Ольга Сергее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став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C:\Users\Пользователь\Downloads\IMG_20230504_143242_296.jpg"/>
          <p:cNvPicPr/>
          <p:nvPr/>
        </p:nvPicPr>
        <p:blipFill>
          <a:blip r:embed="rId9"/>
          <a:stretch/>
        </p:blipFill>
        <p:spPr>
          <a:xfrm>
            <a:off x="0" y="0"/>
            <a:ext cx="1214280" cy="2071800"/>
          </a:xfrm>
          <a:prstGeom prst="rect">
            <a:avLst/>
          </a:prstGeom>
          <a:ln w="0">
            <a:noFill/>
          </a:ln>
        </p:spPr>
      </p:pic>
      <p:sp>
        <p:nvSpPr>
          <p:cNvPr id="515" name="TextBox 20"/>
          <p:cNvSpPr/>
          <p:nvPr/>
        </p:nvSpPr>
        <p:spPr>
          <a:xfrm>
            <a:off x="0" y="2071800"/>
            <a:ext cx="121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рнова Марина Юрьевна, кур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ЖИЗНЕННАЯ СИТУ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3" descr="png-transparent-computer-icons-star-font-awesome-x-mark-angle-leaf-text.png"/>
          <p:cNvPicPr/>
          <p:nvPr/>
        </p:nvPicPr>
        <p:blipFill>
          <a:blip r:embed="rId2"/>
          <a:stretch/>
        </p:blipFill>
        <p:spPr>
          <a:xfrm>
            <a:off x="0" y="471492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КАРТА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Рисунок 4" descr=""/>
          <p:cNvPicPr/>
          <p:nvPr/>
        </p:nvPicPr>
        <p:blipFill>
          <a:blip r:embed="rId1"/>
          <a:stretch/>
        </p:blipFill>
        <p:spPr>
          <a:xfrm>
            <a:off x="493560" y="1127160"/>
            <a:ext cx="3568680" cy="376704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5"/>
          <p:cNvSpPr/>
          <p:nvPr/>
        </p:nvSpPr>
        <p:spPr>
          <a:xfrm>
            <a:off x="4129200" y="1071720"/>
            <a:ext cx="46083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ижний к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родители, родственники, педаг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льний к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е организации, СМИ, социальные сети, религиозные организации, этнические установки (межэтнические отношения), географическое положение (мегаполис, посёлок, се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кторы вли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ие социальные условия, влияние СМИ и социальных сетей, отсутствие квалифицированных специалистов в образовательных учреждениях, отсутствие материальной базы в ОУ, не желание детей читать литературу патриотической направленности, обще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ГИПОТЕЗА 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Рисунок 3" descr="png-transparent-computer-icons-star-font-awesome-x-mark-angle-leaf-text.png"/>
          <p:cNvPicPr/>
          <p:nvPr/>
        </p:nvPicPr>
        <p:blipFill>
          <a:blip r:embed="rId1"/>
          <a:stretch/>
        </p:blipFill>
        <p:spPr>
          <a:xfrm>
            <a:off x="250920" y="4300560"/>
            <a:ext cx="699840" cy="69840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5"/>
          <p:cNvSpPr/>
          <p:nvPr/>
        </p:nvSpPr>
        <p:spPr>
          <a:xfrm>
            <a:off x="515880" y="1247760"/>
            <a:ext cx="37767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 если у ребенка заложены установки на любовь к Родине, то задачи отрасли образования по формированию чувства патриотизма будут выполнены намного эффектив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6"/>
          <p:cNvSpPr/>
          <p:nvPr/>
        </p:nvSpPr>
        <p:spPr>
          <a:xfrm>
            <a:off x="4610160" y="1270080"/>
            <a:ext cx="40510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 если настаивать на участии школьников в мероприятиях патриотической направленности, то можно столкнуться с сопротивлением и не получить необходимого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ПРОЖИВАНИЕ ОПЫТА/ ГЛУБИННОЕ ИНТЕРВ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42920" y="1063440"/>
            <a:ext cx="464184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ществознания в 9 классе МБОУ «Прохоровская гимназия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Ж в 9 классе МБОУ «Прелестненская СОШ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Рисунок 6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2276640" cy="170496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5" descr=""/>
          <p:cNvPicPr/>
          <p:nvPr/>
        </p:nvPicPr>
        <p:blipFill>
          <a:blip r:embed="rId2"/>
          <a:stretch/>
        </p:blipFill>
        <p:spPr>
          <a:xfrm>
            <a:off x="214200" y="321480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530" name="Рисунок 7" descr=""/>
          <p:cNvPicPr/>
          <p:nvPr/>
        </p:nvPicPr>
        <p:blipFill>
          <a:blip r:embed="rId3"/>
          <a:stretch/>
        </p:blipFill>
        <p:spPr>
          <a:xfrm>
            <a:off x="2571840" y="1500120"/>
            <a:ext cx="2203200" cy="171468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8" descr=""/>
          <p:cNvPicPr/>
          <p:nvPr/>
        </p:nvPicPr>
        <p:blipFill>
          <a:blip r:embed="rId4"/>
          <a:stretch/>
        </p:blipFill>
        <p:spPr>
          <a:xfrm>
            <a:off x="2571840" y="3214800"/>
            <a:ext cx="2214360" cy="1601640"/>
          </a:xfrm>
          <a:prstGeom prst="rect">
            <a:avLst/>
          </a:prstGeom>
          <a:ln w="0">
            <a:noFill/>
          </a:ln>
        </p:spPr>
      </p:pic>
      <p:sp>
        <p:nvSpPr>
          <p:cNvPr id="532" name="Содержимое 2"/>
          <p:cNvSpPr/>
          <p:nvPr/>
        </p:nvSpPr>
        <p:spPr>
          <a:xfrm>
            <a:off x="5072040" y="1000080"/>
            <a:ext cx="3737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проводился среди обучающихся 9 классов МБОУ «Прохоровская гимназия», МБОУ «Прелестненская СОШ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ы, которые задавались участникам опрос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Вы понимаете под «патриотизмом»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юбовь к Родине, уважение, почетание традиций, обычаев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ми качествами должен  обладать патриот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тветственный, честный, смелый, отважный, добрый, искренний, великодушием, упорством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на Ваш взгляд, повлиял на формирование Ваших патриотических качеств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одители, учитель, тренер, друзья, директор школы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Вы понимаете выражение «Малая Родина»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алая Родина - это место, где родился человек, где спокойно душе, где живёт семья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традиции есть в твоей семье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тмечать Пасху, Новый год, 8 Марта, 9 Мая, участие в Акции «Бессмертный полк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зовите достопримечательности и памятные места своего посёл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84360" indent="-684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Храм Петра и Павла, Звонница, парк Победы, музей «Бронетанковой техники», музей «Третье ратное поле Росс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КОМПАС  ПЕР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Рисунок 4" descr=""/>
          <p:cNvPicPr/>
          <p:nvPr/>
        </p:nvPicPr>
        <p:blipFill>
          <a:blip r:embed="rId1"/>
          <a:srcRect l="0" t="0" r="0" b="15054"/>
          <a:stretch/>
        </p:blipFill>
        <p:spPr>
          <a:xfrm>
            <a:off x="252360" y="1576440"/>
            <a:ext cx="3087720" cy="2852640"/>
          </a:xfrm>
          <a:prstGeom prst="rect">
            <a:avLst/>
          </a:prstGeom>
          <a:ln w="0">
            <a:noFill/>
          </a:ln>
        </p:spPr>
      </p:pic>
      <p:grpSp>
        <p:nvGrpSpPr>
          <p:cNvPr id="535" name="Группа 94"/>
          <p:cNvGrpSpPr/>
          <p:nvPr/>
        </p:nvGrpSpPr>
        <p:grpSpPr>
          <a:xfrm>
            <a:off x="2981520" y="1001160"/>
            <a:ext cx="5917680" cy="4029120"/>
            <a:chOff x="2981520" y="1001160"/>
            <a:chExt cx="5917680" cy="4029120"/>
          </a:xfrm>
        </p:grpSpPr>
        <p:sp>
          <p:nvSpPr>
            <p:cNvPr id="536" name="Дуга 95"/>
            <p:cNvSpPr/>
            <p:nvPr/>
          </p:nvSpPr>
          <p:spPr>
            <a:xfrm rot="9606600">
              <a:off x="6555600" y="1285560"/>
              <a:ext cx="1935000" cy="1488960"/>
            </a:xfrm>
            <a:prstGeom prst="pie">
              <a:avLst/>
            </a:prstGeom>
            <a:noFill/>
            <a:ln w="9360">
              <a:solidFill>
                <a:srgbClr val="345b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Группа 96"/>
            <p:cNvGrpSpPr/>
            <p:nvPr/>
          </p:nvGrpSpPr>
          <p:grpSpPr>
            <a:xfrm>
              <a:off x="2981520" y="1398960"/>
              <a:ext cx="5917680" cy="3631320"/>
              <a:chOff x="2981520" y="1398960"/>
              <a:chExt cx="5917680" cy="3631320"/>
            </a:xfrm>
          </p:grpSpPr>
          <p:grpSp>
            <p:nvGrpSpPr>
              <p:cNvPr id="538" name="Группа 781524984"/>
              <p:cNvGrpSpPr/>
              <p:nvPr/>
            </p:nvGrpSpPr>
            <p:grpSpPr>
              <a:xfrm>
                <a:off x="3000240" y="1571760"/>
                <a:ext cx="5718600" cy="3429000"/>
                <a:chOff x="3000240" y="1571760"/>
                <a:chExt cx="5718600" cy="3429000"/>
              </a:xfrm>
            </p:grpSpPr>
            <p:sp>
              <p:nvSpPr>
                <p:cNvPr id="539" name="Прямая соединительная линия 1067726852"/>
                <p:cNvSpPr/>
                <p:nvPr/>
              </p:nvSpPr>
              <p:spPr>
                <a:xfrm>
                  <a:off x="6040440" y="1571760"/>
                  <a:ext cx="12600" cy="342900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Прямая соединительная линия 1190648463"/>
                <p:cNvSpPr/>
                <p:nvPr/>
              </p:nvSpPr>
              <p:spPr>
                <a:xfrm>
                  <a:off x="3000240" y="3141720"/>
                  <a:ext cx="57186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Шестиугольник 347464004"/>
                <p:cNvSpPr/>
                <p:nvPr/>
              </p:nvSpPr>
              <p:spPr>
                <a:xfrm>
                  <a:off x="5446800" y="2787840"/>
                  <a:ext cx="1150920" cy="707760"/>
                </a:xfrm>
                <a:prstGeom prst="hexagon">
                  <a:avLst>
                    <a:gd name="adj" fmla="val 25009"/>
                    <a:gd name="vf" fmla="val 115470"/>
                  </a:avLst>
                </a:prstGeom>
                <a:solidFill>
                  <a:srgbClr val="ffffff"/>
                </a:solidFill>
                <a:ln w="1260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Дуга 98"/>
              <p:cNvSpPr/>
              <p:nvPr/>
            </p:nvSpPr>
            <p:spPr>
              <a:xfrm rot="15907800">
                <a:off x="7142760" y="3197520"/>
                <a:ext cx="1352520" cy="2052720"/>
              </a:xfrm>
              <a:prstGeom prst="pie">
                <a:avLst/>
              </a:prstGeom>
              <a:noFill/>
              <a:ln w="9360">
                <a:solidFill>
                  <a:srgbClr val="345b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Группа 99"/>
              <p:cNvGrpSpPr/>
              <p:nvPr/>
            </p:nvGrpSpPr>
            <p:grpSpPr>
              <a:xfrm>
                <a:off x="2981520" y="1398960"/>
                <a:ext cx="5770800" cy="3631320"/>
                <a:chOff x="2981520" y="1398960"/>
                <a:chExt cx="5770800" cy="3631320"/>
              </a:xfrm>
            </p:grpSpPr>
            <p:grpSp>
              <p:nvGrpSpPr>
                <p:cNvPr id="544" name="Группа 1376302407"/>
                <p:cNvGrpSpPr/>
                <p:nvPr/>
              </p:nvGrpSpPr>
              <p:grpSpPr>
                <a:xfrm>
                  <a:off x="5281200" y="1748880"/>
                  <a:ext cx="1463400" cy="345600"/>
                  <a:chOff x="5281200" y="1748880"/>
                  <a:chExt cx="1463400" cy="345600"/>
                </a:xfrm>
              </p:grpSpPr>
              <p:sp>
                <p:nvSpPr>
                  <p:cNvPr id="545" name="Блок-схема: альтернативный процесс 58905383"/>
                  <p:cNvSpPr/>
                  <p:nvPr/>
                </p:nvSpPr>
                <p:spPr>
                  <a:xfrm>
                    <a:off x="5614560" y="1748880"/>
                    <a:ext cx="682560" cy="345600"/>
                  </a:xfrm>
                  <a:prstGeom prst="flowChartAlternateProcess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TextBox 702018308"/>
                  <p:cNvSpPr/>
                  <p:nvPr/>
                </p:nvSpPr>
                <p:spPr>
                  <a:xfrm>
                    <a:off x="5281200" y="1864440"/>
                    <a:ext cx="1463400" cy="204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девочка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Box 115298447"/>
                <p:cNvSpPr/>
                <p:nvPr/>
              </p:nvSpPr>
              <p:spPr>
                <a:xfrm>
                  <a:off x="7668000" y="3016080"/>
                  <a:ext cx="108432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сёлок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TextBox 1952139646"/>
                <p:cNvSpPr/>
                <p:nvPr/>
              </p:nvSpPr>
              <p:spPr>
                <a:xfrm>
                  <a:off x="5366160" y="4339800"/>
                  <a:ext cx="1496880" cy="253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альчик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TextBox 1462036921"/>
                <p:cNvSpPr/>
                <p:nvPr/>
              </p:nvSpPr>
              <p:spPr>
                <a:xfrm>
                  <a:off x="3284640" y="2997000"/>
                  <a:ext cx="952560" cy="253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ело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Блок-схема: извлечение 104"/>
                <p:cNvSpPr/>
                <p:nvPr/>
              </p:nvSpPr>
              <p:spPr>
                <a:xfrm rot="1618200">
                  <a:off x="5992920" y="2908080"/>
                  <a:ext cx="242640" cy="236160"/>
                </a:xfrm>
                <a:prstGeom prst="flowChartExtra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Блок-схема: извлечение 105"/>
                <p:cNvSpPr/>
                <p:nvPr/>
              </p:nvSpPr>
              <p:spPr>
                <a:xfrm rot="12418200">
                  <a:off x="5834520" y="3138120"/>
                  <a:ext cx="242640" cy="236160"/>
                </a:xfrm>
                <a:prstGeom prst="flowChartExtract">
                  <a:avLst/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Дуга 106"/>
                <p:cNvSpPr/>
                <p:nvPr/>
              </p:nvSpPr>
              <p:spPr>
                <a:xfrm rot="5399400">
                  <a:off x="3721680" y="1180800"/>
                  <a:ext cx="1267920" cy="2052720"/>
                </a:xfrm>
                <a:prstGeom prst="pie">
                  <a:avLst/>
                </a:prstGeom>
                <a:noFill/>
                <a:ln w="9360">
                  <a:solidFill>
                    <a:srgbClr val="345b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Дуга 107"/>
                <p:cNvSpPr/>
                <p:nvPr/>
              </p:nvSpPr>
              <p:spPr>
                <a:xfrm rot="1141200">
                  <a:off x="3162600" y="3317400"/>
                  <a:ext cx="1935000" cy="1436400"/>
                </a:xfrm>
                <a:prstGeom prst="pie">
                  <a:avLst/>
                </a:prstGeom>
                <a:noFill/>
                <a:ln w="9360">
                  <a:solidFill>
                    <a:srgbClr val="345b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Box 108"/>
                <p:cNvSpPr/>
                <p:nvPr/>
              </p:nvSpPr>
              <p:spPr>
                <a:xfrm>
                  <a:off x="3383280" y="1451160"/>
                  <a:ext cx="2065320" cy="15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свою Родину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обрая, искренняя, смелая, ответственная, честная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родителей, бабушку и дедушку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важительно относится к учителям и директору школы.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Чтит семейные традициии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частвует в акции «Бессмертный полк» и праздничных мероприятиях, посвящённых 9 мая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Box 109"/>
                <p:cNvSpPr/>
                <p:nvPr/>
              </p:nvSpPr>
              <p:spPr>
                <a:xfrm>
                  <a:off x="6542640" y="3362040"/>
                  <a:ext cx="2079720" cy="14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свою Родину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тов встать на защиту своей Родины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мелый, храбрый, великодушный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важает тренера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ного времени проводит с друзьями и сверстниками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тмечает с родителями семейные праздники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 отдыхать на море летом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TextBox 110"/>
                <p:cNvSpPr/>
                <p:nvPr/>
              </p:nvSpPr>
              <p:spPr>
                <a:xfrm>
                  <a:off x="3319560" y="3349440"/>
                  <a:ext cx="2014560" cy="13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свою Родину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Честный, добрый, храбрый, сильный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важительно относится к учителям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го авторитет директор школы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семью и чтит семейные традиции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сещает музеи 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частвует в патриотических мероприятиях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Box 111"/>
                <p:cNvSpPr/>
                <p:nvPr/>
              </p:nvSpPr>
              <p:spPr>
                <a:xfrm>
                  <a:off x="6428160" y="1398960"/>
                  <a:ext cx="2255760" cy="12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 свою Родину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обрая, умная, ответственная, отзывчивая, храбрая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юбит свою семью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важает учителей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Чтит семейные традиции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ждый год  участвует в акции «Бессмертный полк»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ПЕРС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Рисунок 3" descr="png-transparent-computer-icons-star-font-awesome-x-mark-angle-leaf-text.png"/>
          <p:cNvPicPr/>
          <p:nvPr/>
        </p:nvPicPr>
        <p:blipFill>
          <a:blip r:embed="rId1"/>
          <a:stretch/>
        </p:blipFill>
        <p:spPr>
          <a:xfrm>
            <a:off x="250920" y="4300560"/>
            <a:ext cx="699840" cy="69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0" name=""/>
          <p:cNvGraphicFramePr/>
          <p:nvPr/>
        </p:nvGraphicFramePr>
        <p:xfrm>
          <a:off x="2928960" y="1143000"/>
          <a:ext cx="5786280" cy="3882960"/>
        </p:xfrm>
        <a:graphic>
          <a:graphicData uri="http://schemas.openxmlformats.org/drawingml/2006/table">
            <a:tbl>
              <a:tblPr/>
              <a:tblGrid>
                <a:gridCol w="57862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?                  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лина. Мне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девиз          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В патриотизме     молодёжи - будущее России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 мне               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Я учусь в 9 классе МБОУ «Прохоровская гимназ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мной произошло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ного интересного на летних каникул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ерь я должна сделать 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орошо учиться и сдать итоговые экзам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я не понимаю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чему многие не интересуются историей своей семьи и своей Род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 огорчает и бесит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гда я чего-то не понима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этом я хочу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тупить в институт в г.Кур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обычно я поступаю так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как справедливо и чест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я мечта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стать врач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1" name="Picture 2" descr=""/>
          <p:cNvPicPr/>
          <p:nvPr/>
        </p:nvPicPr>
        <p:blipFill>
          <a:blip r:embed="rId2"/>
          <a:srcRect l="13435" t="20673" r="36956" b="23777"/>
          <a:stretch/>
        </p:blipFill>
        <p:spPr>
          <a:xfrm>
            <a:off x="428760" y="1143000"/>
            <a:ext cx="24289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 Math"/>
              </a:rPr>
              <a:t>КАРТА ПУТИ КЛИ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Рисунок 21" descr="png-transparent-computer-icons-star-font-awesome-x-mark-angle-leaf-text.png"/>
          <p:cNvPicPr/>
          <p:nvPr/>
        </p:nvPicPr>
        <p:blipFill>
          <a:blip r:embed="rId1"/>
          <a:stretch/>
        </p:blipFill>
        <p:spPr>
          <a:xfrm>
            <a:off x="250920" y="430056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5" descr=""/>
          <p:cNvPicPr/>
          <p:nvPr/>
        </p:nvPicPr>
        <p:blipFill>
          <a:blip r:embed="rId2"/>
          <a:srcRect l="3834" t="3887" r="3699" b="8180"/>
          <a:stretch/>
        </p:blipFill>
        <p:spPr>
          <a:xfrm>
            <a:off x="928800" y="1143000"/>
            <a:ext cx="75787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1T00:20:50Z</dcterms:created>
  <dc:creator>Антоннина</dc:creator>
  <dc:description/>
  <dc:language>en-US</dc:language>
  <cp:lastModifiedBy>Оля</cp:lastModifiedBy>
  <dcterms:modified xsi:type="dcterms:W3CDTF">2023-12-04T13:52:56Z</dcterms:modified>
  <cp:revision>51</cp:revision>
  <dc:subject/>
  <dc:title>АКСЕЛЕРАТОР  ПРОЕКТОВ ПО СЕРВИС-ДИЗАЙНУ</dc:title>
</cp:coreProperties>
</file>